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724-07D5-4025-8029-DF9F0DD9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7EA-DD66-4C54-B2C1-189A9046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9D5-71EF-43CB-9EE8-D9DA92A3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79D-CD0C-4207-88A5-3C4AEBDB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D11-4559-4521-AA49-048D494E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826-1463-442B-A27F-93CA00B8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A3F-26A8-4FFF-B741-929F21EB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CDF-00E7-447E-A918-11E00FE2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F79-F7E0-4E17-A9EB-A3A9511F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B55-D450-49A9-8B19-3F585621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A5E-8AC0-4E60-A894-CE38A2EB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0FD-AE58-449A-969E-D64B95E4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470E9-251C-4324-BE99-27EB785E28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F2C5C-7DC4-4118-A5F0-72A7C63F8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s and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st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that has the same composition and properties through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Aluminum Sheet.jpg"/>
          <p:cNvPicPr/>
          <p:nvPr/>
        </p:nvPicPr>
        <p:blipFill>
          <a:blip r:embed="rId1"/>
          <a:stretch/>
        </p:blipFill>
        <p:spPr>
          <a:xfrm>
            <a:off x="2666880" y="26971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ance whose smallest unit is made up of atoms of more than one element bonded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Water.jpg"/>
          <p:cNvPicPr/>
          <p:nvPr/>
        </p:nvPicPr>
        <p:blipFill>
          <a:blip r:embed="rId1"/>
          <a:stretch/>
        </p:blipFill>
        <p:spPr>
          <a:xfrm>
            <a:off x="2516040" y="2830680"/>
            <a:ext cx="411984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Perox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Hydrogen Peroxide.jpg"/>
          <p:cNvPicPr/>
          <p:nvPr/>
        </p:nvPicPr>
        <p:blipFill>
          <a:blip r:embed="rId1"/>
          <a:srcRect l="-40911" t="0" r="-40911" b="0"/>
          <a:stretch/>
        </p:blipFill>
        <p:spPr>
          <a:xfrm>
            <a:off x="1082520" y="1682640"/>
            <a:ext cx="69962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Carbon Dioxide.png"/>
          <p:cNvPicPr/>
          <p:nvPr/>
        </p:nvPicPr>
        <p:blipFill>
          <a:blip r:embed="rId1"/>
          <a:srcRect l="-9755" t="0" r="-975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Monox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Carbon Monoxide.png"/>
          <p:cNvPicPr/>
          <p:nvPr/>
        </p:nvPicPr>
        <p:blipFill>
          <a:blip r:embed="rId1"/>
          <a:srcRect l="-21987" t="0" r="-2198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or more substances come together but don’t combine to make a new sub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Air.jpg"/>
          <p:cNvPicPr/>
          <p:nvPr/>
        </p:nvPicPr>
        <p:blipFill>
          <a:blip r:embed="rId1"/>
          <a:stretch/>
        </p:blipFill>
        <p:spPr>
          <a:xfrm>
            <a:off x="2681280" y="2895480"/>
            <a:ext cx="366876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mogenous or Heterogeno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x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mogen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ame throughou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terogen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8" descr="Pizza.jpg"/>
          <p:cNvPicPr/>
          <p:nvPr/>
        </p:nvPicPr>
        <p:blipFill>
          <a:blip r:embed="rId1"/>
          <a:srcRect l="0" t="-23283" r="0" b="-23283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Vanilla Ice Cream.jpg"/>
          <p:cNvPicPr/>
          <p:nvPr/>
        </p:nvPicPr>
        <p:blipFill>
          <a:blip r:embed="rId2"/>
          <a:stretch/>
        </p:blipFill>
        <p:spPr>
          <a:xfrm>
            <a:off x="830160" y="2722680"/>
            <a:ext cx="328932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21:51:55Z</dcterms:created>
  <dc:creator>Cleophis Carson</dc:creator>
  <dc:description/>
  <dc:language>en-US</dc:language>
  <cp:lastModifiedBy>Cleophis Carson</cp:lastModifiedBy>
  <dcterms:modified xsi:type="dcterms:W3CDTF">2011-09-13T11:08:53Z</dcterms:modified>
  <cp:revision>1</cp:revision>
  <dc:subject/>
  <dc:title>Compounds and Mixtures</dc:title>
</cp:coreProperties>
</file>